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B91F0-6560-412D-80A5-8FB77F96E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588BA-88AA-430D-A752-499173DD8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71071-B6AE-4574-8932-8525EC1DD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0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0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0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EAFE5-D301-4887-94B5-1770440B7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9816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D528C-8DDE-432D-932F-9DCC52DCA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2F114-AAB0-453E-BCC1-D54A1323E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EAD2C-570C-4ABF-A985-334851F74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AEE92-279C-4FB7-B143-1ACF6AD02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B940F-D32C-4B7E-8165-ED22629D0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DC954-D873-4581-9A4B-A632F2945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16381-293A-46AD-8DC7-7539D2BBF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B82BF-72AC-427E-BADE-C1E82E8A4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00ABD1-5303-4BEC-9966-EE7B94F7A2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80920" y="228600"/>
            <a:ext cx="7577280" cy="111456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George Washington The Early Years. </a:t>
            </a:r>
            <a:endParaRPr b="0" lang="en-US" sz="3600" spc="-1" strike="noStrike">
              <a:solidFill>
                <a:srgbClr val="000000"/>
              </a:solidFill>
              <a:latin typeface="Arial"/>
            </a:endParaRPr>
          </a:p>
        </p:txBody>
      </p:sp>
      <p:sp>
        <p:nvSpPr>
          <p:cNvPr id="42" name=""/>
          <p:cNvSpPr/>
          <p:nvPr/>
        </p:nvSpPr>
        <p:spPr>
          <a:xfrm>
            <a:off x="272880" y="2035080"/>
            <a:ext cx="10122120" cy="2468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George Washington was born in  1732 in Wake-field plantation around</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Westmorland county. When George was just 11 years old his father died his older brother looked after him and taught him to shoot and hunt. When George was just 16 years old he became a surveyor that happened in 1748. Long after something really sad happened Georges older brother died of tuberculosis. After that George became the owner of mount Vernon.  </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457200"/>
            <a:ext cx="2643120" cy="5428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ight sources</a:t>
            </a:r>
            <a:endParaRPr b="0" lang="en-US" sz="3200" spc="-1" strike="noStrike">
              <a:solidFill>
                <a:srgbClr val="000000"/>
              </a:solidFill>
              <a:latin typeface="Arial"/>
            </a:endParaRPr>
          </a:p>
        </p:txBody>
      </p:sp>
      <p:sp>
        <p:nvSpPr>
          <p:cNvPr id="60" name=""/>
          <p:cNvSpPr/>
          <p:nvPr/>
        </p:nvSpPr>
        <p:spPr>
          <a:xfrm>
            <a:off x="0" y="1600200"/>
            <a:ext cx="10080720" cy="996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000000"/>
                </a:solidFill>
                <a:latin typeface="Arial"/>
              </a:rPr>
              <a:t>http://www.ducksters.com/biography/uspresidents/georgewashington.php</a:t>
            </a:r>
            <a:endParaRPr b="0" lang="en-US" sz="3200" spc="-1" strike="noStrike">
              <a:solidFill>
                <a:srgbClr val="000000"/>
              </a:solidFill>
              <a:latin typeface="Arial"/>
            </a:endParaRPr>
          </a:p>
        </p:txBody>
      </p:sp>
      <p:sp>
        <p:nvSpPr>
          <p:cNvPr id="61" name=""/>
          <p:cNvSpPr/>
          <p:nvPr/>
        </p:nvSpPr>
        <p:spPr>
          <a:xfrm>
            <a:off x="228600" y="3429000"/>
            <a:ext cx="9794880" cy="5428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000000"/>
                </a:solidFill>
                <a:latin typeface="Arial"/>
              </a:rPr>
              <a:t>http://www.pocanticohills.org/washington/timeline.ht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00200" y="457200"/>
            <a:ext cx="7905600" cy="600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George Washington The Later Years. </a:t>
            </a:r>
            <a:endParaRPr b="0" lang="en-US" sz="3600" spc="-1" strike="noStrike">
              <a:solidFill>
                <a:srgbClr val="000000"/>
              </a:solidFill>
              <a:latin typeface="Arial"/>
            </a:endParaRPr>
          </a:p>
        </p:txBody>
      </p:sp>
      <p:sp>
        <p:nvSpPr>
          <p:cNvPr id="44" name=""/>
          <p:cNvSpPr/>
          <p:nvPr/>
        </p:nvSpPr>
        <p:spPr>
          <a:xfrm>
            <a:off x="457200" y="1515960"/>
            <a:ext cx="9283680" cy="1789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George was caught a leader in the militia and he got involved in the</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Starting the French and them starting a Indian war. After the Indian </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War he married a woman named Martha he ended out to have two </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Step kids.  George and Martha never had kids of there own but George</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Looked after his wife's children that she had from her marriage before </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She met George. Instead of having kids George became a landowner l</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Like his father.    </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228600"/>
            <a:ext cx="9299520" cy="5428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George Washington And The American Revolution</a:t>
            </a:r>
            <a:endParaRPr b="0" lang="en-US" sz="3200" spc="-1" strike="noStrike">
              <a:solidFill>
                <a:srgbClr val="000000"/>
              </a:solidFill>
              <a:latin typeface="Arial"/>
            </a:endParaRPr>
          </a:p>
        </p:txBody>
      </p:sp>
      <p:sp>
        <p:nvSpPr>
          <p:cNvPr id="46" name=""/>
          <p:cNvSpPr/>
          <p:nvPr/>
        </p:nvSpPr>
        <p:spPr>
          <a:xfrm>
            <a:off x="228600" y="1371600"/>
            <a:ext cx="9867960" cy="14493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George became one of Virginia's Delegates at the First And Second </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Continental Congress this was a group of people who decided to attack </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The British. IN 1775 they chose Washington as a General of the </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Continental Army. General Washington was not easy to handle  </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There-fore he had a ragtag army of colonial farmers who whe3re ready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Fight the trained British soldiers. Even during the tough times he held his</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Army together this means even losing battles but he still stood strong.</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Over the coarse of about six years George led his army to victory over the</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British. These victories included The Crossing Of The Delaware Ri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It also included the victory the last one on Christmas [The British </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Surrender.] That last one happened on October,17 1781.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204920" y="228600"/>
            <a:ext cx="6796080" cy="5428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George Washington President Years</a:t>
            </a:r>
            <a:endParaRPr b="0" lang="en-US" sz="3200" spc="-1" strike="noStrike">
              <a:solidFill>
                <a:srgbClr val="000000"/>
              </a:solidFill>
              <a:latin typeface="Arial"/>
            </a:endParaRPr>
          </a:p>
        </p:txBody>
      </p:sp>
      <p:sp>
        <p:nvSpPr>
          <p:cNvPr id="48" name=""/>
          <p:cNvSpPr/>
          <p:nvPr/>
        </p:nvSpPr>
        <p:spPr>
          <a:xfrm>
            <a:off x="814320" y="1076400"/>
            <a:ext cx="8758440" cy="770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uring George's president years he had established many rolls </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Some of that still stand today. He helped to guide and build the formation </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Of the U.S. Government with the words of the constitution. George </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ormed a presidential cabinet witch was the first presidential cabinet and it</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cluded his friends Thomas Jefferson and Alexander Hamilton. After tw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erms of being president he stepped down he did not want being </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President to rule his life plus people might think he was a king.</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7200" y="457200"/>
            <a:ext cx="7862760" cy="5428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George's                                Death............</a:t>
            </a:r>
            <a:endParaRPr b="0" lang="en-US" sz="3200" spc="-1" strike="noStrike">
              <a:solidFill>
                <a:srgbClr val="000000"/>
              </a:solidFill>
              <a:latin typeface="Arial"/>
            </a:endParaRPr>
          </a:p>
        </p:txBody>
      </p:sp>
      <p:sp>
        <p:nvSpPr>
          <p:cNvPr id="50" name=""/>
          <p:cNvSpPr/>
          <p:nvPr/>
        </p:nvSpPr>
        <p:spPr>
          <a:xfrm>
            <a:off x="228600" y="1351080"/>
            <a:ext cx="9415440" cy="7696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After a couple of years of being president George caught a bad cold </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That turned out to be a bad fever then he died.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457200"/>
            <a:ext cx="3251160" cy="5428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Journal Entry # 1</a:t>
            </a:r>
            <a:endParaRPr b="0" lang="en-US" sz="3200" spc="-1" strike="noStrike">
              <a:solidFill>
                <a:srgbClr val="000000"/>
              </a:solidFill>
              <a:latin typeface="Arial"/>
            </a:endParaRPr>
          </a:p>
        </p:txBody>
      </p:sp>
      <p:sp>
        <p:nvSpPr>
          <p:cNvPr id="52" name=""/>
          <p:cNvSpPr/>
          <p:nvPr/>
        </p:nvSpPr>
        <p:spPr>
          <a:xfrm>
            <a:off x="412920" y="1098720"/>
            <a:ext cx="9448560" cy="1109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I was born in 1732, But something really sad happened to me when I</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Was 11 years my father died so my other brother maid shore I was </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400" spc="-1" strike="noStrike">
                <a:solidFill>
                  <a:srgbClr val="000000"/>
                </a:solidFill>
                <a:latin typeface="Arial"/>
              </a:rPr>
              <a:t>Educated and maid shore I knew how to hunt and shoot.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228600"/>
            <a:ext cx="3251160" cy="5428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Journal Entry # 2</a:t>
            </a:r>
            <a:endParaRPr b="0" lang="en-US" sz="3200" spc="-1" strike="noStrike">
              <a:solidFill>
                <a:srgbClr val="000000"/>
              </a:solidFill>
              <a:latin typeface="Arial"/>
            </a:endParaRPr>
          </a:p>
        </p:txBody>
      </p:sp>
      <p:sp>
        <p:nvSpPr>
          <p:cNvPr id="54" name=""/>
          <p:cNvSpPr/>
          <p:nvPr/>
        </p:nvSpPr>
        <p:spPr>
          <a:xfrm>
            <a:off x="228600" y="1065240"/>
            <a:ext cx="9748800" cy="14493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000000"/>
                </a:solidFill>
                <a:latin typeface="Arial"/>
              </a:rPr>
              <a:t>I married a women named named Martha She was a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000000"/>
                </a:solidFill>
                <a:latin typeface="Arial"/>
              </a:rPr>
              <a:t>Nice women and she had two other  children of her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000000"/>
                </a:solidFill>
                <a:latin typeface="Arial"/>
              </a:rPr>
              <a:t>Own that I looked after and cared for.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457200"/>
            <a:ext cx="3251160" cy="5428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Journal Entry # 3</a:t>
            </a:r>
            <a:endParaRPr b="0" lang="en-US" sz="3200" spc="-1" strike="noStrike">
              <a:solidFill>
                <a:srgbClr val="000000"/>
              </a:solidFill>
              <a:latin typeface="Arial"/>
            </a:endParaRPr>
          </a:p>
        </p:txBody>
      </p:sp>
      <p:sp>
        <p:nvSpPr>
          <p:cNvPr id="56" name=""/>
          <p:cNvSpPr/>
          <p:nvPr/>
        </p:nvSpPr>
        <p:spPr>
          <a:xfrm>
            <a:off x="457200" y="1371600"/>
            <a:ext cx="9345600" cy="1903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 became a president and surved two terms. Being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resident was fun and I accomplished many things</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 had great friends during that time like Thomas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Jefferson and Alexander Hamilton.</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42800" y="228600"/>
            <a:ext cx="3251160" cy="5428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Journal Entry # 4</a:t>
            </a:r>
            <a:endParaRPr b="0" lang="en-US" sz="3200" spc="-1" strike="noStrike">
              <a:solidFill>
                <a:srgbClr val="000000"/>
              </a:solidFill>
              <a:latin typeface="Arial"/>
            </a:endParaRPr>
          </a:p>
        </p:txBody>
      </p:sp>
      <p:sp>
        <p:nvSpPr>
          <p:cNvPr id="58" name=""/>
          <p:cNvSpPr/>
          <p:nvPr/>
        </p:nvSpPr>
        <p:spPr>
          <a:xfrm>
            <a:off x="457200" y="1143000"/>
            <a:ext cx="9774360" cy="2355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000000"/>
                </a:solidFill>
                <a:latin typeface="Arial"/>
              </a:rPr>
              <a:t>I stepped Down from being President after two terms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000000"/>
                </a:solidFill>
                <a:latin typeface="Arial"/>
              </a:rPr>
              <a:t>They were great ones I stepped down because I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000000"/>
                </a:solidFill>
                <a:latin typeface="Arial"/>
              </a:rPr>
              <a:t>Did not want the power of being president rule me.</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000000"/>
                </a:solidFill>
                <a:latin typeface="Arial"/>
              </a:rPr>
              <a:t>And plus it's also like being a king.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4:54:10Z</dcterms:created>
  <dc:creator/>
  <dc:description/>
  <dc:language>en-US</dc:language>
  <cp:lastModifiedBy/>
  <cp:revision>1</cp:revision>
  <dc:subject/>
  <dc:title/>
</cp:coreProperties>
</file>